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whoosh.wav" ContentType="audio/x-wav"/>
  <Override PartName="/ppt/media/image9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ECA6-4FB8-4612-8A60-F53F997A2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0270-72E4-465F-B920-A9E4D3607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54DF-6229-4B5B-B185-96E457C96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B394-360B-42D0-81DB-E38CA92BF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339F-4C91-419F-A380-0AE3175DA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2D10-659A-43C7-9545-3134A34B3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5592-3B3B-4E5E-9BD2-4FCEEF3FC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E9A5-83A6-4771-B097-03DE395C2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975D-8C4B-40D4-9E6B-36970B264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B996-02DF-4C32-8EE9-7E25AFC8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8520-84FD-4611-96AE-0C99DA79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77C0-7708-4DEC-AACA-46BF1861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9B46-E72B-4D58-972B-8532124B5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1.trekearth.com/photos/69396/village_kaloni.jpg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La Geografi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l Mun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s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zabetht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u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sy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lo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olina del No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m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d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 del No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Planetas del Sistema So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848360" cy="49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contin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5800" y="1189080"/>
            <a:ext cx="7620120" cy="49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pai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4648320" cy="4011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876920" y="1295280"/>
            <a:ext cx="406692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 estos paises se habla Españ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733920" cy="4525920"/>
          </a:xfrm>
          <a:prstGeom prst="rect">
            <a:avLst/>
          </a:prstGeom>
          <a:ln w="0">
            <a:noFill/>
          </a:ln>
        </p:spPr>
      </p:pic>
      <p:grpSp>
        <p:nvGrpSpPr>
          <p:cNvPr id="54" name=""/>
          <p:cNvGrpSpPr/>
          <p:nvPr/>
        </p:nvGrpSpPr>
        <p:grpSpPr>
          <a:xfrm>
            <a:off x="5334120" y="1752480"/>
            <a:ext cx="2327400" cy="1632600"/>
            <a:chOff x="5334120" y="1752480"/>
            <a:chExt cx="2327400" cy="1632600"/>
          </a:xfrm>
        </p:grpSpPr>
        <p:grpSp>
          <p:nvGrpSpPr>
            <p:cNvPr id="55" name=""/>
            <p:cNvGrpSpPr/>
            <p:nvPr/>
          </p:nvGrpSpPr>
          <p:grpSpPr>
            <a:xfrm>
              <a:off x="5334120" y="1752480"/>
              <a:ext cx="2102760" cy="1331640"/>
              <a:chOff x="5334120" y="1752480"/>
              <a:chExt cx="2102760" cy="1331640"/>
            </a:xfrm>
          </p:grpSpPr>
          <p:sp>
            <p:nvSpPr>
              <p:cNvPr id="56" name=""/>
              <p:cNvSpPr/>
              <p:nvPr/>
            </p:nvSpPr>
            <p:spPr>
              <a:xfrm>
                <a:off x="5334120" y="1752480"/>
                <a:ext cx="1905840" cy="1331640"/>
              </a:xfrm>
              <a:custGeom>
                <a:avLst/>
                <a:gdLst/>
                <a:ahLst/>
                <a:rect l="l" t="t" r="r" b="b"/>
                <a:pathLst>
                  <a:path w="2428" h="2036">
                    <a:moveTo>
                      <a:pt x="1216" y="96"/>
                    </a:moveTo>
                    <a:lnTo>
                      <a:pt x="1184" y="138"/>
                    </a:lnTo>
                    <a:lnTo>
                      <a:pt x="1127" y="128"/>
                    </a:lnTo>
                    <a:lnTo>
                      <a:pt x="1091" y="123"/>
                    </a:lnTo>
                    <a:lnTo>
                      <a:pt x="1078" y="100"/>
                    </a:lnTo>
                    <a:lnTo>
                      <a:pt x="1048" y="102"/>
                    </a:lnTo>
                    <a:lnTo>
                      <a:pt x="1040" y="84"/>
                    </a:lnTo>
                    <a:lnTo>
                      <a:pt x="1002" y="104"/>
                    </a:lnTo>
                    <a:lnTo>
                      <a:pt x="953" y="114"/>
                    </a:lnTo>
                    <a:lnTo>
                      <a:pt x="931" y="114"/>
                    </a:lnTo>
                    <a:lnTo>
                      <a:pt x="871" y="87"/>
                    </a:lnTo>
                    <a:lnTo>
                      <a:pt x="801" y="82"/>
                    </a:lnTo>
                    <a:lnTo>
                      <a:pt x="768" y="69"/>
                    </a:lnTo>
                    <a:lnTo>
                      <a:pt x="736" y="77"/>
                    </a:lnTo>
                    <a:lnTo>
                      <a:pt x="705" y="60"/>
                    </a:lnTo>
                    <a:lnTo>
                      <a:pt x="671" y="46"/>
                    </a:lnTo>
                    <a:lnTo>
                      <a:pt x="620" y="49"/>
                    </a:lnTo>
                    <a:lnTo>
                      <a:pt x="547" y="50"/>
                    </a:lnTo>
                    <a:lnTo>
                      <a:pt x="498" y="44"/>
                    </a:lnTo>
                    <a:lnTo>
                      <a:pt x="468" y="50"/>
                    </a:lnTo>
                    <a:lnTo>
                      <a:pt x="438" y="30"/>
                    </a:lnTo>
                    <a:lnTo>
                      <a:pt x="415" y="44"/>
                    </a:lnTo>
                    <a:lnTo>
                      <a:pt x="306" y="7"/>
                    </a:lnTo>
                    <a:lnTo>
                      <a:pt x="283" y="18"/>
                    </a:lnTo>
                    <a:lnTo>
                      <a:pt x="270" y="0"/>
                    </a:lnTo>
                    <a:lnTo>
                      <a:pt x="224" y="33"/>
                    </a:lnTo>
                    <a:lnTo>
                      <a:pt x="189" y="38"/>
                    </a:lnTo>
                    <a:lnTo>
                      <a:pt x="187" y="66"/>
                    </a:lnTo>
                    <a:lnTo>
                      <a:pt x="225" y="70"/>
                    </a:lnTo>
                    <a:lnTo>
                      <a:pt x="215" y="91"/>
                    </a:lnTo>
                    <a:lnTo>
                      <a:pt x="199" y="96"/>
                    </a:lnTo>
                    <a:lnTo>
                      <a:pt x="155" y="99"/>
                    </a:lnTo>
                    <a:lnTo>
                      <a:pt x="111" y="104"/>
                    </a:lnTo>
                    <a:lnTo>
                      <a:pt x="85" y="101"/>
                    </a:lnTo>
                    <a:lnTo>
                      <a:pt x="58" y="132"/>
                    </a:lnTo>
                    <a:lnTo>
                      <a:pt x="34" y="127"/>
                    </a:lnTo>
                    <a:lnTo>
                      <a:pt x="27" y="145"/>
                    </a:lnTo>
                    <a:lnTo>
                      <a:pt x="12" y="141"/>
                    </a:lnTo>
                    <a:lnTo>
                      <a:pt x="0" y="193"/>
                    </a:lnTo>
                    <a:lnTo>
                      <a:pt x="27" y="197"/>
                    </a:lnTo>
                    <a:lnTo>
                      <a:pt x="29" y="229"/>
                    </a:lnTo>
                    <a:lnTo>
                      <a:pt x="60" y="222"/>
                    </a:lnTo>
                    <a:lnTo>
                      <a:pt x="85" y="215"/>
                    </a:lnTo>
                    <a:lnTo>
                      <a:pt x="73" y="236"/>
                    </a:lnTo>
                    <a:lnTo>
                      <a:pt x="70" y="247"/>
                    </a:lnTo>
                    <a:lnTo>
                      <a:pt x="49" y="245"/>
                    </a:lnTo>
                    <a:lnTo>
                      <a:pt x="37" y="278"/>
                    </a:lnTo>
                    <a:lnTo>
                      <a:pt x="45" y="301"/>
                    </a:lnTo>
                    <a:lnTo>
                      <a:pt x="65" y="280"/>
                    </a:lnTo>
                    <a:lnTo>
                      <a:pt x="60" y="265"/>
                    </a:lnTo>
                    <a:lnTo>
                      <a:pt x="83" y="258"/>
                    </a:lnTo>
                    <a:lnTo>
                      <a:pt x="106" y="260"/>
                    </a:lnTo>
                    <a:lnTo>
                      <a:pt x="111" y="276"/>
                    </a:lnTo>
                    <a:lnTo>
                      <a:pt x="93" y="280"/>
                    </a:lnTo>
                    <a:lnTo>
                      <a:pt x="78" y="317"/>
                    </a:lnTo>
                    <a:lnTo>
                      <a:pt x="85" y="365"/>
                    </a:lnTo>
                    <a:lnTo>
                      <a:pt x="98" y="354"/>
                    </a:lnTo>
                    <a:lnTo>
                      <a:pt x="115" y="351"/>
                    </a:lnTo>
                    <a:lnTo>
                      <a:pt x="115" y="370"/>
                    </a:lnTo>
                    <a:lnTo>
                      <a:pt x="100" y="392"/>
                    </a:lnTo>
                    <a:lnTo>
                      <a:pt x="78" y="416"/>
                    </a:lnTo>
                    <a:lnTo>
                      <a:pt x="79" y="437"/>
                    </a:lnTo>
                    <a:lnTo>
                      <a:pt x="131" y="408"/>
                    </a:lnTo>
                    <a:lnTo>
                      <a:pt x="168" y="418"/>
                    </a:lnTo>
                    <a:lnTo>
                      <a:pt x="192" y="413"/>
                    </a:lnTo>
                    <a:lnTo>
                      <a:pt x="203" y="446"/>
                    </a:lnTo>
                    <a:lnTo>
                      <a:pt x="182" y="453"/>
                    </a:lnTo>
                    <a:lnTo>
                      <a:pt x="184" y="480"/>
                    </a:lnTo>
                    <a:lnTo>
                      <a:pt x="218" y="463"/>
                    </a:lnTo>
                    <a:lnTo>
                      <a:pt x="223" y="481"/>
                    </a:lnTo>
                    <a:lnTo>
                      <a:pt x="255" y="480"/>
                    </a:lnTo>
                    <a:lnTo>
                      <a:pt x="257" y="466"/>
                    </a:lnTo>
                    <a:lnTo>
                      <a:pt x="272" y="473"/>
                    </a:lnTo>
                    <a:lnTo>
                      <a:pt x="286" y="500"/>
                    </a:lnTo>
                    <a:lnTo>
                      <a:pt x="306" y="483"/>
                    </a:lnTo>
                    <a:lnTo>
                      <a:pt x="331" y="494"/>
                    </a:lnTo>
                    <a:lnTo>
                      <a:pt x="349" y="489"/>
                    </a:lnTo>
                    <a:lnTo>
                      <a:pt x="369" y="486"/>
                    </a:lnTo>
                    <a:lnTo>
                      <a:pt x="387" y="459"/>
                    </a:lnTo>
                    <a:lnTo>
                      <a:pt x="418" y="460"/>
                    </a:lnTo>
                    <a:lnTo>
                      <a:pt x="440" y="456"/>
                    </a:lnTo>
                    <a:lnTo>
                      <a:pt x="465" y="466"/>
                    </a:lnTo>
                    <a:lnTo>
                      <a:pt x="493" y="486"/>
                    </a:lnTo>
                    <a:lnTo>
                      <a:pt x="492" y="513"/>
                    </a:lnTo>
                    <a:lnTo>
                      <a:pt x="503" y="546"/>
                    </a:lnTo>
                    <a:lnTo>
                      <a:pt x="521" y="550"/>
                    </a:lnTo>
                    <a:lnTo>
                      <a:pt x="532" y="548"/>
                    </a:lnTo>
                    <a:lnTo>
                      <a:pt x="547" y="561"/>
                    </a:lnTo>
                    <a:lnTo>
                      <a:pt x="547" y="594"/>
                    </a:lnTo>
                    <a:lnTo>
                      <a:pt x="528" y="661"/>
                    </a:lnTo>
                    <a:lnTo>
                      <a:pt x="494" y="672"/>
                    </a:lnTo>
                    <a:lnTo>
                      <a:pt x="477" y="654"/>
                    </a:lnTo>
                    <a:lnTo>
                      <a:pt x="453" y="668"/>
                    </a:lnTo>
                    <a:lnTo>
                      <a:pt x="451" y="690"/>
                    </a:lnTo>
                    <a:lnTo>
                      <a:pt x="431" y="740"/>
                    </a:lnTo>
                    <a:lnTo>
                      <a:pt x="445" y="798"/>
                    </a:lnTo>
                    <a:lnTo>
                      <a:pt x="438" y="839"/>
                    </a:lnTo>
                    <a:lnTo>
                      <a:pt x="428" y="900"/>
                    </a:lnTo>
                    <a:lnTo>
                      <a:pt x="405" y="905"/>
                    </a:lnTo>
                    <a:lnTo>
                      <a:pt x="392" y="919"/>
                    </a:lnTo>
                    <a:lnTo>
                      <a:pt x="387" y="933"/>
                    </a:lnTo>
                    <a:lnTo>
                      <a:pt x="405" y="951"/>
                    </a:lnTo>
                    <a:lnTo>
                      <a:pt x="413" y="980"/>
                    </a:lnTo>
                    <a:lnTo>
                      <a:pt x="407" y="1004"/>
                    </a:lnTo>
                    <a:lnTo>
                      <a:pt x="385" y="1039"/>
                    </a:lnTo>
                    <a:lnTo>
                      <a:pt x="381" y="1073"/>
                    </a:lnTo>
                    <a:lnTo>
                      <a:pt x="352" y="1093"/>
                    </a:lnTo>
                    <a:lnTo>
                      <a:pt x="316" y="1097"/>
                    </a:lnTo>
                    <a:lnTo>
                      <a:pt x="311" y="1079"/>
                    </a:lnTo>
                    <a:lnTo>
                      <a:pt x="292" y="1071"/>
                    </a:lnTo>
                    <a:lnTo>
                      <a:pt x="286" y="1099"/>
                    </a:lnTo>
                    <a:lnTo>
                      <a:pt x="315" y="1169"/>
                    </a:lnTo>
                    <a:lnTo>
                      <a:pt x="350" y="1191"/>
                    </a:lnTo>
                    <a:lnTo>
                      <a:pt x="390" y="1221"/>
                    </a:lnTo>
                    <a:lnTo>
                      <a:pt x="385" y="1254"/>
                    </a:lnTo>
                    <a:lnTo>
                      <a:pt x="350" y="1268"/>
                    </a:lnTo>
                    <a:lnTo>
                      <a:pt x="344" y="1305"/>
                    </a:lnTo>
                    <a:lnTo>
                      <a:pt x="311" y="1310"/>
                    </a:lnTo>
                    <a:lnTo>
                      <a:pt x="311" y="1356"/>
                    </a:lnTo>
                    <a:lnTo>
                      <a:pt x="300" y="1379"/>
                    </a:lnTo>
                    <a:lnTo>
                      <a:pt x="355" y="1453"/>
                    </a:lnTo>
                    <a:lnTo>
                      <a:pt x="381" y="1478"/>
                    </a:lnTo>
                    <a:lnTo>
                      <a:pt x="370" y="1502"/>
                    </a:lnTo>
                    <a:lnTo>
                      <a:pt x="339" y="1508"/>
                    </a:lnTo>
                    <a:lnTo>
                      <a:pt x="309" y="1506"/>
                    </a:lnTo>
                    <a:lnTo>
                      <a:pt x="299" y="1535"/>
                    </a:lnTo>
                    <a:lnTo>
                      <a:pt x="270" y="1595"/>
                    </a:lnTo>
                    <a:lnTo>
                      <a:pt x="247" y="1642"/>
                    </a:lnTo>
                    <a:lnTo>
                      <a:pt x="269" y="1671"/>
                    </a:lnTo>
                    <a:lnTo>
                      <a:pt x="269" y="1710"/>
                    </a:lnTo>
                    <a:lnTo>
                      <a:pt x="311" y="1708"/>
                    </a:lnTo>
                    <a:lnTo>
                      <a:pt x="316" y="1716"/>
                    </a:lnTo>
                    <a:lnTo>
                      <a:pt x="355" y="1727"/>
                    </a:lnTo>
                    <a:lnTo>
                      <a:pt x="372" y="1716"/>
                    </a:lnTo>
                    <a:lnTo>
                      <a:pt x="396" y="1716"/>
                    </a:lnTo>
                    <a:lnTo>
                      <a:pt x="392" y="1753"/>
                    </a:lnTo>
                    <a:lnTo>
                      <a:pt x="428" y="1769"/>
                    </a:lnTo>
                    <a:lnTo>
                      <a:pt x="448" y="1785"/>
                    </a:lnTo>
                    <a:lnTo>
                      <a:pt x="477" y="1801"/>
                    </a:lnTo>
                    <a:lnTo>
                      <a:pt x="484" y="1814"/>
                    </a:lnTo>
                    <a:lnTo>
                      <a:pt x="464" y="1852"/>
                    </a:lnTo>
                    <a:lnTo>
                      <a:pt x="473" y="1866"/>
                    </a:lnTo>
                    <a:lnTo>
                      <a:pt x="510" y="1895"/>
                    </a:lnTo>
                    <a:lnTo>
                      <a:pt x="515" y="1921"/>
                    </a:lnTo>
                    <a:lnTo>
                      <a:pt x="528" y="1947"/>
                    </a:lnTo>
                    <a:lnTo>
                      <a:pt x="548" y="1982"/>
                    </a:lnTo>
                    <a:lnTo>
                      <a:pt x="582" y="2011"/>
                    </a:lnTo>
                    <a:lnTo>
                      <a:pt x="612" y="2034"/>
                    </a:lnTo>
                    <a:lnTo>
                      <a:pt x="641" y="2036"/>
                    </a:lnTo>
                    <a:lnTo>
                      <a:pt x="677" y="2033"/>
                    </a:lnTo>
                    <a:lnTo>
                      <a:pt x="693" y="2009"/>
                    </a:lnTo>
                    <a:lnTo>
                      <a:pt x="729" y="1943"/>
                    </a:lnTo>
                    <a:lnTo>
                      <a:pt x="790" y="1923"/>
                    </a:lnTo>
                    <a:lnTo>
                      <a:pt x="858" y="1918"/>
                    </a:lnTo>
                    <a:lnTo>
                      <a:pt x="906" y="1887"/>
                    </a:lnTo>
                    <a:lnTo>
                      <a:pt x="939" y="1885"/>
                    </a:lnTo>
                    <a:lnTo>
                      <a:pt x="960" y="1866"/>
                    </a:lnTo>
                    <a:lnTo>
                      <a:pt x="985" y="1866"/>
                    </a:lnTo>
                    <a:lnTo>
                      <a:pt x="1034" y="1877"/>
                    </a:lnTo>
                    <a:lnTo>
                      <a:pt x="1072" y="1870"/>
                    </a:lnTo>
                    <a:lnTo>
                      <a:pt x="1099" y="1885"/>
                    </a:lnTo>
                    <a:lnTo>
                      <a:pt x="1132" y="1875"/>
                    </a:lnTo>
                    <a:lnTo>
                      <a:pt x="1219" y="1875"/>
                    </a:lnTo>
                    <a:lnTo>
                      <a:pt x="1249" y="1885"/>
                    </a:lnTo>
                    <a:lnTo>
                      <a:pt x="1307" y="1844"/>
                    </a:lnTo>
                    <a:lnTo>
                      <a:pt x="1333" y="1826"/>
                    </a:lnTo>
                    <a:lnTo>
                      <a:pt x="1345" y="1846"/>
                    </a:lnTo>
                    <a:lnTo>
                      <a:pt x="1385" y="1857"/>
                    </a:lnTo>
                    <a:lnTo>
                      <a:pt x="1405" y="1848"/>
                    </a:lnTo>
                    <a:lnTo>
                      <a:pt x="1416" y="1814"/>
                    </a:lnTo>
                    <a:lnTo>
                      <a:pt x="1434" y="1801"/>
                    </a:lnTo>
                    <a:lnTo>
                      <a:pt x="1449" y="1769"/>
                    </a:lnTo>
                    <a:lnTo>
                      <a:pt x="1470" y="1706"/>
                    </a:lnTo>
                    <a:lnTo>
                      <a:pt x="1494" y="1709"/>
                    </a:lnTo>
                    <a:lnTo>
                      <a:pt x="1559" y="1665"/>
                    </a:lnTo>
                    <a:lnTo>
                      <a:pt x="1613" y="1639"/>
                    </a:lnTo>
                    <a:lnTo>
                      <a:pt x="1639" y="1649"/>
                    </a:lnTo>
                    <a:lnTo>
                      <a:pt x="1670" y="1655"/>
                    </a:lnTo>
                    <a:lnTo>
                      <a:pt x="1698" y="1621"/>
                    </a:lnTo>
                    <a:lnTo>
                      <a:pt x="1685" y="1610"/>
                    </a:lnTo>
                    <a:lnTo>
                      <a:pt x="1691" y="1552"/>
                    </a:lnTo>
                    <a:lnTo>
                      <a:pt x="1706" y="1521"/>
                    </a:lnTo>
                    <a:lnTo>
                      <a:pt x="1715" y="1483"/>
                    </a:lnTo>
                    <a:lnTo>
                      <a:pt x="1737" y="1457"/>
                    </a:lnTo>
                    <a:lnTo>
                      <a:pt x="1737" y="1435"/>
                    </a:lnTo>
                    <a:lnTo>
                      <a:pt x="1765" y="1437"/>
                    </a:lnTo>
                    <a:lnTo>
                      <a:pt x="1767" y="1399"/>
                    </a:lnTo>
                    <a:lnTo>
                      <a:pt x="1827" y="1377"/>
                    </a:lnTo>
                    <a:lnTo>
                      <a:pt x="1845" y="1349"/>
                    </a:lnTo>
                    <a:lnTo>
                      <a:pt x="1865" y="1353"/>
                    </a:lnTo>
                    <a:lnTo>
                      <a:pt x="1885" y="1325"/>
                    </a:lnTo>
                    <a:lnTo>
                      <a:pt x="1854" y="1289"/>
                    </a:lnTo>
                    <a:lnTo>
                      <a:pt x="1829" y="1283"/>
                    </a:lnTo>
                    <a:lnTo>
                      <a:pt x="1809" y="1273"/>
                    </a:lnTo>
                    <a:lnTo>
                      <a:pt x="1777" y="1230"/>
                    </a:lnTo>
                    <a:lnTo>
                      <a:pt x="1759" y="1171"/>
                    </a:lnTo>
                    <a:lnTo>
                      <a:pt x="1750" y="1131"/>
                    </a:lnTo>
                    <a:lnTo>
                      <a:pt x="1775" y="1080"/>
                    </a:lnTo>
                    <a:lnTo>
                      <a:pt x="1823" y="989"/>
                    </a:lnTo>
                    <a:lnTo>
                      <a:pt x="1868" y="908"/>
                    </a:lnTo>
                    <a:lnTo>
                      <a:pt x="1883" y="901"/>
                    </a:lnTo>
                    <a:lnTo>
                      <a:pt x="1903" y="866"/>
                    </a:lnTo>
                    <a:lnTo>
                      <a:pt x="1917" y="827"/>
                    </a:lnTo>
                    <a:lnTo>
                      <a:pt x="1934" y="830"/>
                    </a:lnTo>
                    <a:lnTo>
                      <a:pt x="1972" y="807"/>
                    </a:lnTo>
                    <a:lnTo>
                      <a:pt x="1972" y="789"/>
                    </a:lnTo>
                    <a:lnTo>
                      <a:pt x="1944" y="787"/>
                    </a:lnTo>
                    <a:lnTo>
                      <a:pt x="1946" y="769"/>
                    </a:lnTo>
                    <a:lnTo>
                      <a:pt x="1968" y="751"/>
                    </a:lnTo>
                    <a:lnTo>
                      <a:pt x="1977" y="715"/>
                    </a:lnTo>
                    <a:lnTo>
                      <a:pt x="2018" y="700"/>
                    </a:lnTo>
                    <a:lnTo>
                      <a:pt x="2072" y="684"/>
                    </a:lnTo>
                    <a:lnTo>
                      <a:pt x="2115" y="677"/>
                    </a:lnTo>
                    <a:lnTo>
                      <a:pt x="2134" y="650"/>
                    </a:lnTo>
                    <a:lnTo>
                      <a:pt x="2171" y="627"/>
                    </a:lnTo>
                    <a:lnTo>
                      <a:pt x="2222" y="633"/>
                    </a:lnTo>
                    <a:lnTo>
                      <a:pt x="2222" y="612"/>
                    </a:lnTo>
                    <a:lnTo>
                      <a:pt x="2263" y="569"/>
                    </a:lnTo>
                    <a:lnTo>
                      <a:pt x="2288" y="549"/>
                    </a:lnTo>
                    <a:lnTo>
                      <a:pt x="2336" y="518"/>
                    </a:lnTo>
                    <a:lnTo>
                      <a:pt x="2364" y="521"/>
                    </a:lnTo>
                    <a:lnTo>
                      <a:pt x="2393" y="482"/>
                    </a:lnTo>
                    <a:lnTo>
                      <a:pt x="2397" y="443"/>
                    </a:lnTo>
                    <a:lnTo>
                      <a:pt x="2428" y="423"/>
                    </a:lnTo>
                    <a:lnTo>
                      <a:pt x="2415" y="393"/>
                    </a:lnTo>
                    <a:lnTo>
                      <a:pt x="2390" y="381"/>
                    </a:lnTo>
                    <a:lnTo>
                      <a:pt x="2397" y="355"/>
                    </a:lnTo>
                    <a:lnTo>
                      <a:pt x="2417" y="345"/>
                    </a:lnTo>
                    <a:lnTo>
                      <a:pt x="2399" y="328"/>
                    </a:lnTo>
                    <a:lnTo>
                      <a:pt x="2377" y="320"/>
                    </a:lnTo>
                    <a:lnTo>
                      <a:pt x="2327" y="314"/>
                    </a:lnTo>
                    <a:lnTo>
                      <a:pt x="2312" y="327"/>
                    </a:lnTo>
                    <a:lnTo>
                      <a:pt x="2296" y="352"/>
                    </a:lnTo>
                    <a:lnTo>
                      <a:pt x="2268" y="355"/>
                    </a:lnTo>
                    <a:lnTo>
                      <a:pt x="2240" y="347"/>
                    </a:lnTo>
                    <a:lnTo>
                      <a:pt x="2154" y="347"/>
                    </a:lnTo>
                    <a:lnTo>
                      <a:pt x="2138" y="325"/>
                    </a:lnTo>
                    <a:lnTo>
                      <a:pt x="2090" y="352"/>
                    </a:lnTo>
                    <a:lnTo>
                      <a:pt x="2048" y="357"/>
                    </a:lnTo>
                    <a:lnTo>
                      <a:pt x="2048" y="347"/>
                    </a:lnTo>
                    <a:lnTo>
                      <a:pt x="2070" y="297"/>
                    </a:lnTo>
                    <a:lnTo>
                      <a:pt x="2009" y="269"/>
                    </a:lnTo>
                    <a:lnTo>
                      <a:pt x="1959" y="263"/>
                    </a:lnTo>
                    <a:lnTo>
                      <a:pt x="1946" y="245"/>
                    </a:lnTo>
                    <a:lnTo>
                      <a:pt x="1900" y="248"/>
                    </a:lnTo>
                    <a:lnTo>
                      <a:pt x="1895" y="286"/>
                    </a:lnTo>
                    <a:lnTo>
                      <a:pt x="1860" y="286"/>
                    </a:lnTo>
                    <a:lnTo>
                      <a:pt x="1741" y="284"/>
                    </a:lnTo>
                    <a:lnTo>
                      <a:pt x="1755" y="262"/>
                    </a:lnTo>
                    <a:lnTo>
                      <a:pt x="1732" y="248"/>
                    </a:lnTo>
                    <a:lnTo>
                      <a:pt x="1706" y="259"/>
                    </a:lnTo>
                    <a:lnTo>
                      <a:pt x="1657" y="260"/>
                    </a:lnTo>
                    <a:lnTo>
                      <a:pt x="1647" y="228"/>
                    </a:lnTo>
                    <a:lnTo>
                      <a:pt x="1637" y="198"/>
                    </a:lnTo>
                    <a:lnTo>
                      <a:pt x="1604" y="213"/>
                    </a:lnTo>
                    <a:lnTo>
                      <a:pt x="1572" y="213"/>
                    </a:lnTo>
                    <a:lnTo>
                      <a:pt x="1576" y="192"/>
                    </a:lnTo>
                    <a:lnTo>
                      <a:pt x="1542" y="185"/>
                    </a:lnTo>
                    <a:lnTo>
                      <a:pt x="1518" y="192"/>
                    </a:lnTo>
                    <a:lnTo>
                      <a:pt x="1496" y="189"/>
                    </a:lnTo>
                    <a:lnTo>
                      <a:pt x="1496" y="141"/>
                    </a:lnTo>
                    <a:lnTo>
                      <a:pt x="1463" y="153"/>
                    </a:lnTo>
                    <a:lnTo>
                      <a:pt x="1461" y="132"/>
                    </a:lnTo>
                    <a:lnTo>
                      <a:pt x="1435" y="120"/>
                    </a:lnTo>
                    <a:lnTo>
                      <a:pt x="1422" y="131"/>
                    </a:lnTo>
                    <a:lnTo>
                      <a:pt x="1387" y="132"/>
                    </a:lnTo>
                    <a:lnTo>
                      <a:pt x="1369" y="138"/>
                    </a:lnTo>
                    <a:lnTo>
                      <a:pt x="1323" y="138"/>
                    </a:lnTo>
                    <a:lnTo>
                      <a:pt x="1277" y="120"/>
                    </a:lnTo>
                    <a:lnTo>
                      <a:pt x="1270" y="108"/>
                    </a:lnTo>
                    <a:lnTo>
                      <a:pt x="1237" y="114"/>
                    </a:lnTo>
                    <a:lnTo>
                      <a:pt x="1216" y="96"/>
                    </a:lnTo>
                    <a:close/>
                  </a:path>
                </a:pathLst>
              </a:custGeom>
              <a:solidFill>
                <a:srgbClr val="008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6954120" y="2372760"/>
                <a:ext cx="482760" cy="257040"/>
                <a:chOff x="6954120" y="2372760"/>
                <a:chExt cx="482760" cy="25704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6954120" y="2551680"/>
                  <a:ext cx="64080" cy="46800"/>
                </a:xfrm>
                <a:custGeom>
                  <a:avLst/>
                  <a:gdLst/>
                  <a:ahLst/>
                  <a:rect l="l" t="t" r="r" b="b"/>
                  <a:pathLst>
                    <a:path w="83" h="72">
                      <a:moveTo>
                        <a:pt x="71" y="0"/>
                      </a:moveTo>
                      <a:lnTo>
                        <a:pt x="47" y="0"/>
                      </a:lnTo>
                      <a:lnTo>
                        <a:pt x="19" y="16"/>
                      </a:lnTo>
                      <a:lnTo>
                        <a:pt x="19" y="32"/>
                      </a:lnTo>
                      <a:lnTo>
                        <a:pt x="11" y="34"/>
                      </a:lnTo>
                      <a:lnTo>
                        <a:pt x="3" y="44"/>
                      </a:lnTo>
                      <a:lnTo>
                        <a:pt x="0" y="55"/>
                      </a:lnTo>
                      <a:lnTo>
                        <a:pt x="9" y="57"/>
                      </a:lnTo>
                      <a:lnTo>
                        <a:pt x="24" y="72"/>
                      </a:lnTo>
                      <a:lnTo>
                        <a:pt x="34" y="72"/>
                      </a:lnTo>
                      <a:lnTo>
                        <a:pt x="34" y="65"/>
                      </a:lnTo>
                      <a:lnTo>
                        <a:pt x="43" y="49"/>
                      </a:lnTo>
                      <a:lnTo>
                        <a:pt x="52" y="52"/>
                      </a:lnTo>
                      <a:lnTo>
                        <a:pt x="60" y="41"/>
                      </a:lnTo>
                      <a:lnTo>
                        <a:pt x="81" y="21"/>
                      </a:lnTo>
                      <a:lnTo>
                        <a:pt x="83" y="16"/>
                      </a:lnTo>
                      <a:lnTo>
                        <a:pt x="81" y="13"/>
                      </a:lnTo>
                      <a:lnTo>
                        <a:pt x="71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6984000" y="2604960"/>
                  <a:ext cx="34200" cy="24840"/>
                </a:xfrm>
                <a:custGeom>
                  <a:avLst/>
                  <a:gdLst/>
                  <a:ahLst/>
                  <a:rect l="l" t="t" r="r" b="b"/>
                  <a:pathLst>
                    <a:path w="43" h="38">
                      <a:moveTo>
                        <a:pt x="7" y="0"/>
                      </a:moveTo>
                      <a:lnTo>
                        <a:pt x="7" y="8"/>
                      </a:lnTo>
                      <a:lnTo>
                        <a:pt x="0" y="16"/>
                      </a:lnTo>
                      <a:lnTo>
                        <a:pt x="0" y="28"/>
                      </a:lnTo>
                      <a:lnTo>
                        <a:pt x="7" y="38"/>
                      </a:lnTo>
                      <a:lnTo>
                        <a:pt x="15" y="31"/>
                      </a:lnTo>
                      <a:lnTo>
                        <a:pt x="20" y="34"/>
                      </a:lnTo>
                      <a:lnTo>
                        <a:pt x="33" y="38"/>
                      </a:lnTo>
                      <a:lnTo>
                        <a:pt x="43" y="34"/>
                      </a:lnTo>
                      <a:lnTo>
                        <a:pt x="41" y="25"/>
                      </a:lnTo>
                      <a:lnTo>
                        <a:pt x="31" y="16"/>
                      </a:lnTo>
                      <a:lnTo>
                        <a:pt x="22" y="12"/>
                      </a:lnTo>
                      <a:lnTo>
                        <a:pt x="15" y="12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7120440" y="2389320"/>
                  <a:ext cx="178560" cy="121320"/>
                </a:xfrm>
                <a:custGeom>
                  <a:avLst/>
                  <a:gdLst/>
                  <a:ahLst/>
                  <a:rect l="l" t="t" r="r" b="b"/>
                  <a:pathLst>
                    <a:path w="229" h="186">
                      <a:moveTo>
                        <a:pt x="181" y="0"/>
                      </a:moveTo>
                      <a:lnTo>
                        <a:pt x="160" y="13"/>
                      </a:lnTo>
                      <a:lnTo>
                        <a:pt x="165" y="18"/>
                      </a:lnTo>
                      <a:lnTo>
                        <a:pt x="175" y="18"/>
                      </a:lnTo>
                      <a:lnTo>
                        <a:pt x="170" y="28"/>
                      </a:lnTo>
                      <a:lnTo>
                        <a:pt x="157" y="40"/>
                      </a:lnTo>
                      <a:lnTo>
                        <a:pt x="170" y="38"/>
                      </a:lnTo>
                      <a:lnTo>
                        <a:pt x="179" y="45"/>
                      </a:lnTo>
                      <a:lnTo>
                        <a:pt x="179" y="48"/>
                      </a:lnTo>
                      <a:lnTo>
                        <a:pt x="187" y="58"/>
                      </a:lnTo>
                      <a:lnTo>
                        <a:pt x="198" y="52"/>
                      </a:lnTo>
                      <a:lnTo>
                        <a:pt x="203" y="38"/>
                      </a:lnTo>
                      <a:lnTo>
                        <a:pt x="216" y="40"/>
                      </a:lnTo>
                      <a:lnTo>
                        <a:pt x="223" y="48"/>
                      </a:lnTo>
                      <a:lnTo>
                        <a:pt x="229" y="58"/>
                      </a:lnTo>
                      <a:lnTo>
                        <a:pt x="220" y="68"/>
                      </a:lnTo>
                      <a:lnTo>
                        <a:pt x="211" y="74"/>
                      </a:lnTo>
                      <a:lnTo>
                        <a:pt x="218" y="87"/>
                      </a:lnTo>
                      <a:lnTo>
                        <a:pt x="216" y="98"/>
                      </a:lnTo>
                      <a:lnTo>
                        <a:pt x="213" y="114"/>
                      </a:lnTo>
                      <a:lnTo>
                        <a:pt x="207" y="130"/>
                      </a:lnTo>
                      <a:lnTo>
                        <a:pt x="190" y="132"/>
                      </a:lnTo>
                      <a:lnTo>
                        <a:pt x="195" y="143"/>
                      </a:lnTo>
                      <a:lnTo>
                        <a:pt x="203" y="156"/>
                      </a:lnTo>
                      <a:lnTo>
                        <a:pt x="192" y="163"/>
                      </a:lnTo>
                      <a:lnTo>
                        <a:pt x="187" y="178"/>
                      </a:lnTo>
                      <a:lnTo>
                        <a:pt x="181" y="181"/>
                      </a:lnTo>
                      <a:lnTo>
                        <a:pt x="173" y="176"/>
                      </a:lnTo>
                      <a:lnTo>
                        <a:pt x="165" y="176"/>
                      </a:lnTo>
                      <a:lnTo>
                        <a:pt x="150" y="186"/>
                      </a:lnTo>
                      <a:lnTo>
                        <a:pt x="130" y="160"/>
                      </a:lnTo>
                      <a:lnTo>
                        <a:pt x="111" y="165"/>
                      </a:lnTo>
                      <a:lnTo>
                        <a:pt x="99" y="154"/>
                      </a:lnTo>
                      <a:lnTo>
                        <a:pt x="93" y="138"/>
                      </a:lnTo>
                      <a:lnTo>
                        <a:pt x="93" y="122"/>
                      </a:lnTo>
                      <a:lnTo>
                        <a:pt x="77" y="118"/>
                      </a:lnTo>
                      <a:lnTo>
                        <a:pt x="70" y="118"/>
                      </a:lnTo>
                      <a:lnTo>
                        <a:pt x="64" y="109"/>
                      </a:lnTo>
                      <a:lnTo>
                        <a:pt x="57" y="118"/>
                      </a:lnTo>
                      <a:lnTo>
                        <a:pt x="52" y="130"/>
                      </a:lnTo>
                      <a:lnTo>
                        <a:pt x="39" y="141"/>
                      </a:lnTo>
                      <a:lnTo>
                        <a:pt x="24" y="122"/>
                      </a:lnTo>
                      <a:lnTo>
                        <a:pt x="0" y="120"/>
                      </a:lnTo>
                      <a:lnTo>
                        <a:pt x="6" y="109"/>
                      </a:lnTo>
                      <a:lnTo>
                        <a:pt x="22" y="98"/>
                      </a:lnTo>
                      <a:lnTo>
                        <a:pt x="24" y="87"/>
                      </a:lnTo>
                      <a:lnTo>
                        <a:pt x="41" y="63"/>
                      </a:lnTo>
                      <a:lnTo>
                        <a:pt x="62" y="61"/>
                      </a:lnTo>
                      <a:lnTo>
                        <a:pt x="80" y="43"/>
                      </a:lnTo>
                      <a:lnTo>
                        <a:pt x="86" y="33"/>
                      </a:lnTo>
                      <a:lnTo>
                        <a:pt x="99" y="22"/>
                      </a:lnTo>
                      <a:lnTo>
                        <a:pt x="106" y="26"/>
                      </a:lnTo>
                      <a:lnTo>
                        <a:pt x="124" y="18"/>
                      </a:lnTo>
                      <a:lnTo>
                        <a:pt x="130" y="5"/>
                      </a:lnTo>
                      <a:lnTo>
                        <a:pt x="155" y="2"/>
                      </a:lnTo>
                      <a:lnTo>
                        <a:pt x="181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7352280" y="2372760"/>
                  <a:ext cx="84600" cy="49320"/>
                </a:xfrm>
                <a:custGeom>
                  <a:avLst/>
                  <a:gdLst/>
                  <a:ahLst/>
                  <a:rect l="l" t="t" r="r" b="b"/>
                  <a:pathLst>
                    <a:path w="108" h="75">
                      <a:moveTo>
                        <a:pt x="0" y="4"/>
                      </a:moveTo>
                      <a:lnTo>
                        <a:pt x="10" y="0"/>
                      </a:lnTo>
                      <a:lnTo>
                        <a:pt x="33" y="4"/>
                      </a:lnTo>
                      <a:lnTo>
                        <a:pt x="41" y="6"/>
                      </a:lnTo>
                      <a:lnTo>
                        <a:pt x="50" y="4"/>
                      </a:lnTo>
                      <a:lnTo>
                        <a:pt x="63" y="0"/>
                      </a:lnTo>
                      <a:lnTo>
                        <a:pt x="78" y="2"/>
                      </a:lnTo>
                      <a:lnTo>
                        <a:pt x="92" y="8"/>
                      </a:lnTo>
                      <a:lnTo>
                        <a:pt x="99" y="27"/>
                      </a:lnTo>
                      <a:lnTo>
                        <a:pt x="95" y="38"/>
                      </a:lnTo>
                      <a:lnTo>
                        <a:pt x="101" y="51"/>
                      </a:lnTo>
                      <a:lnTo>
                        <a:pt x="108" y="63"/>
                      </a:lnTo>
                      <a:lnTo>
                        <a:pt x="105" y="75"/>
                      </a:lnTo>
                      <a:lnTo>
                        <a:pt x="99" y="65"/>
                      </a:lnTo>
                      <a:lnTo>
                        <a:pt x="82" y="49"/>
                      </a:lnTo>
                      <a:lnTo>
                        <a:pt x="54" y="38"/>
                      </a:lnTo>
                      <a:lnTo>
                        <a:pt x="33" y="36"/>
                      </a:lnTo>
                      <a:lnTo>
                        <a:pt x="17" y="40"/>
                      </a:lnTo>
                      <a:lnTo>
                        <a:pt x="11" y="34"/>
                      </a:lnTo>
                      <a:lnTo>
                        <a:pt x="10" y="21"/>
                      </a:lnTo>
                      <a:lnTo>
                        <a:pt x="0" y="17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7216200" y="2522880"/>
                  <a:ext cx="28080" cy="18000"/>
                </a:xfrm>
                <a:custGeom>
                  <a:avLst/>
                  <a:gdLst/>
                  <a:ahLst/>
                  <a:rect l="l" t="t" r="r" b="b"/>
                  <a:pathLst>
                    <a:path w="35" h="28">
                      <a:moveTo>
                        <a:pt x="11" y="0"/>
                      </a:moveTo>
                      <a:lnTo>
                        <a:pt x="0" y="13"/>
                      </a:lnTo>
                      <a:lnTo>
                        <a:pt x="4" y="23"/>
                      </a:lnTo>
                      <a:lnTo>
                        <a:pt x="13" y="28"/>
                      </a:lnTo>
                      <a:lnTo>
                        <a:pt x="25" y="23"/>
                      </a:lnTo>
                      <a:lnTo>
                        <a:pt x="35" y="17"/>
                      </a:lnTo>
                      <a:lnTo>
                        <a:pt x="30" y="11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3" name=""/>
            <p:cNvSpPr/>
            <p:nvPr/>
          </p:nvSpPr>
          <p:spPr>
            <a:xfrm>
              <a:off x="6516000" y="2925360"/>
              <a:ext cx="114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Españ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876920" y="3886200"/>
            <a:ext cx="342900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Es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761976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Cond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8153280" cy="49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ciu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815364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pueb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 flipH="1" rot="21588000">
            <a:off x="607320" y="1599840"/>
            <a:ext cx="3429000" cy="24084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3886200" y="2438280"/>
            <a:ext cx="4873680" cy="36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5T12:47:59Z</dcterms:created>
  <dc:creator>WSFCS Workstation</dc:creator>
  <dc:description/>
  <dc:language>en-US</dc:language>
  <cp:lastModifiedBy>WSFCS Workstation</cp:lastModifiedBy>
  <dcterms:modified xsi:type="dcterms:W3CDTF">2010-04-05T15:08:08Z</dcterms:modified>
  <cp:revision>11</cp:revision>
  <dc:subject/>
  <dc:title>La Geografia</dc:title>
</cp:coreProperties>
</file>